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C97FF-56FF-4847-A9FF-36BA3BE05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C8FE-205B-4CB0-A7AC-2C56B728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520E1D-B791-4151-A6C6-D4EAFBAA1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0F210A-0FB5-49CF-A12E-A217EF667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DC7734-E77C-4721-97F1-014E8123E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7B8127-4651-4989-B15D-D7F348A6F6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00435-D20A-4B6F-9E1A-4980D42D5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87017-BE86-40E1-9D60-BEB7857A5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731D0-03E6-48F3-931A-1315AE4695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853267-A3CC-471B-A11B-AE3BBEF30D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A2596-D2A1-4B3E-BF5D-E3831B1016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F62E2D-6FF6-460D-B6BF-EE2EBC812D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CFA5D-B8CF-4FBC-8291-B6F813259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52F0C-782B-497B-974F-A76ABFF9C2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624E4A-1778-451D-899C-150F92523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42B614-BEE6-4600-A1DD-FBA22A6FC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536719-9693-43BD-9232-16D2A986A2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E3EF2-9F64-438C-A297-8D85D667BE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4AFB42-848E-43A3-83B0-9C4B9607C7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94FC0F-F387-490E-8FEE-9B677C711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73383-B0CC-4A35-8738-99532807C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2048E3-D300-411D-A80A-30B0DE395B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B72A72-13A2-48D8-B039-367760A787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097C8-1A18-4243-AF12-C32D71CEE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CEB6FC-3D5A-4073-9800-166AFB5912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E0C5C1-E44E-4970-A633-2706F1F5F2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238A52-00E4-408A-930B-04687CE3A1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D65C92-15EB-4A58-A8A3-E890642A18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C808E5-A8AB-440F-A519-2DEB9260BA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4318F6-16ED-4A70-AFE4-57F8423D64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E80E14-8D3E-4901-B427-8C97E0A6FD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29607D-9000-447B-982D-7530DCC03F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C81350-B2FC-4AB9-99F1-982414722B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41F77F-841E-480B-8E92-776C24933E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CC61BB-DF34-41A2-B8CC-2C1CB6D3EF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030980-59C3-4A04-B849-379F0058F4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69572E-9176-4893-838E-41693168FD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15A542-4C06-49C4-B3BD-D530BB9329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46B9D2-994A-488B-8E76-60CD71B9EE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E2E25E-B62D-420C-B075-9D45D961E4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4F9E98-4E3E-4B77-A6CD-6319AAA6C1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220728-D034-45D6-899C-5E7B4BCB57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2877C8-49FC-4A7E-A76B-0292F1DCD2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96BF99-83F3-406F-B237-255EA87C21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6BC693-3D73-4298-9F00-FDFEEB7915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FD4438-2AAE-414B-9521-99794E6089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56CCA3-877C-4B31-ADA9-ACB6047AC7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ACD288-9BA9-4654-B977-62CF17550D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848B36-B7BC-427B-A4B3-D76D6D40BC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0B3697-2BDF-4AD3-8DF9-9CCC1EEB3B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24E0A9-5DCA-47C1-AB4F-39CEA3FEDC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3DBB49-A0AB-414D-BCCE-69A5358D7A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BB1B89-0653-451E-A234-A6171252FF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7BCB4A-61B6-418C-9745-90D0D7656F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E887A9-9679-4AF8-A353-06A47C1DE2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84DEC9-EBE9-4CD0-B829-40708E1638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55FA57-73A7-4827-9D52-4B98A22EC1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BEA226-AFEA-4825-BF44-43FFF1CB99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D3E160-743D-4041-B9FD-54D1ABAA28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8CA460-B395-4F0F-BA09-01E74E8AAA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684C18-A2D5-42EB-BDF9-3FFDAAB229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D41B16-E821-4959-8450-7B63EB10EF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57B426-F7A7-41B7-B862-83466D6CCA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571950-70C5-4B36-BCAF-10E86B25F8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0897FE-8FD6-40A9-99E1-1CDD5B0185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924940-34F8-4CDF-AAF6-435D7B89C6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924917-175E-4610-B373-AC0D23DBBA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92F2E2-18BA-4339-B137-FB4832035E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37757B-F4F5-4872-9ABB-623DCACFDC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79149F-0F2D-4987-98B4-D31B69A697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AB582B-700B-40EF-87B7-2504621E31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23C618-4B7E-49BD-A065-511785A9F4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4C9809-350D-44B1-B880-F0970820F3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CFAF7-3641-47D8-83EB-F5C147DC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12E613B-A579-4237-BABC-2A9DBE5DB1F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0152F5-EE76-4836-9746-B0CAEA2B47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7318DD-95E1-42DC-9BD2-AFDEEF426E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860901-9A34-4620-8218-FA1C23C79C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EE722E-87A2-456E-A66A-0067DEAD16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05D8F-8F0B-4499-9C23-34C08F66F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C5281B-2B15-4F07-9306-ED93BCD123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A05F74-D2E3-488A-A9E0-0200E6ADB7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389F8F-B097-4EBD-812D-82D24B2FC7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19473E-A06D-4358-B284-8FC9714C53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873A6D-B575-4439-AB32-C6FC972385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3D5B49-3698-46B4-AE63-5B4299C8E5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560128-953A-426F-9DB6-D50A3297EA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AB4C-14E0-47DD-82DB-122FC284F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48D0-A410-4C5C-B200-D5D45EFB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C77D4-1BE0-432C-8280-C42E00C83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D7A431-45A8-4023-B8F5-0D61426F7D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15A16-A17F-4972-8CD5-14259F78E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34D47-0059-4D50-853D-0ED956AF80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54172-C0FB-4356-9412-DAD776A76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80620-D6B2-48AB-B6C8-7D28C7F3B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E7D1C-EA2D-4E1A-A18A-F73BCD82F0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562E7-44AD-4F22-A7C5-D353A87A5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3D62C-8541-4251-A6EA-DC6FE1EDC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AB80D-0193-4A12-B5D4-F89D52A7B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E510-B5A9-491A-944F-E665960DC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E6278-A62E-4B5F-B137-BE553BBE4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08F054-8444-4518-BF1C-CCA2605370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77215B-0617-49AA-B258-5BFD443AF7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FE468A-49AE-4F64-AA11-D14E370796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A08E1-C76A-42F1-A09E-0A80FA948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81D54-3997-481C-A9D6-581E7B2DE0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E2EBE-8B04-4EDC-9D82-61CD8F212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99DB6C-C6E4-4001-93B3-84E823B03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6714B-66DB-4B06-93A5-161E8637E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F52A6-8262-42F4-86DD-542AC9622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18E9-B38A-41DD-8889-994334A6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64140-9759-46BA-8DE2-F93C8ED10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E1BF3-B355-4743-AF72-E8EAB7CB1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3D8F0-C5DD-4F57-8810-1E0AD80756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66D87B-3980-4FFA-8B53-07228FDAC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7D5DA8-F6D3-4E3D-8895-F1179C2A62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05F008-3A7C-4FCC-A2D1-2CCBAAE880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8DF71-59DB-4ABB-BD16-0AEAC6982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4732EF-9E44-4E29-9DD4-CA8092155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4825AF-3EA4-424E-81B4-E1C9FF22D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29B27-1929-4608-B441-897DBBFD7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0B64-BB7D-4F86-897D-A63B2F82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5A7D1-109D-48E4-80C5-64937AEB8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A253B-9D96-4E4D-9846-00EEE9474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13721-C7D5-4620-8A0A-9E8110E00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64BB0-1B9E-427B-BC62-D018C8FDC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CB8F8-82BB-43DA-AD85-3C114A7534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F21ECC-A6A5-4A68-AF5B-6A8115FBE0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18E2BE-63AF-4D4E-ABF1-821BC15AA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AEAA7-F145-4E47-89B0-685BD74DFB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E2EE0-752F-41F8-9234-0D8899AAE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72743-7A3B-4D51-B222-518837BE00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BC24-357F-4FA2-BF8F-FA1CABBF2A96}"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custGeom>
              <a:avLst/>
              <a:gdLst/>
              <a:ahLst/>
              <a:rect l="l" t="t" r="r" b="b"/>
              <a:pathLst>
                <a:path w="4251960" h="6387352">
                  <a:moveTo>
                    <a:pt x="0" y="0"/>
                  </a:moveTo>
                  <a:lnTo>
                    <a:pt x="4090641" y="0"/>
                  </a:lnTo>
                  <a:lnTo>
                    <a:pt x="4251960" y="161319"/>
                  </a:lnTo>
                  <a:lnTo>
                    <a:pt x="4251960" y="6387352"/>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92" name="Teardrop 8"/>
            <p:cNvSpPr/>
            <p:nvPr/>
          </p:nvSpPr>
          <p:spPr>
            <a:xfrm>
              <a:off x="3885840" y="432360"/>
              <a:ext cx="354960" cy="354960"/>
            </a:xfrm>
            <a:custGeom>
              <a:avLst/>
              <a:gdLst/>
              <a:ahLst/>
              <a:rect l="l" t="t" r="r" b="b"/>
              <a:pathLst>
                <a:path w="355002" h="355002">
                  <a:moveTo>
                    <a:pt x="0" y="177501"/>
                  </a:moveTo>
                  <a:cubicBezTo>
                    <a:pt x="0" y="79470"/>
                    <a:pt x="79470" y="0"/>
                    <a:pt x="177501" y="0"/>
                  </a:cubicBezTo>
                  <a:lnTo>
                    <a:pt x="355002" y="0"/>
                  </a:lnTo>
                  <a:lnTo>
                    <a:pt x="355002" y="177501"/>
                  </a:lnTo>
                  <a:cubicBezTo>
                    <a:pt x="355002" y="275532"/>
                    <a:pt x="275532" y="355002"/>
                    <a:pt x="177501" y="355002"/>
                  </a:cubicBezTo>
                  <a:cubicBezTo>
                    <a:pt x="79470" y="355002"/>
                    <a:pt x="0" y="275532"/>
                    <a:pt x="0" y="177501"/>
                  </a:cubicBez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custGeom>
            <a:avLst/>
            <a:gdLst/>
            <a:ahLst/>
            <a:rect l="l" t="t" r="r" b="b"/>
            <a:pathLst>
              <a:path w="4251960" h="6387352">
                <a:moveTo>
                  <a:pt x="0" y="0"/>
                </a:moveTo>
                <a:lnTo>
                  <a:pt x="4090641" y="0"/>
                </a:lnTo>
                <a:lnTo>
                  <a:pt x="4251960" y="161319"/>
                </a:lnTo>
                <a:lnTo>
                  <a:pt x="4251960" y="6387352"/>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4BB0-C07A-4928-B2D3-543A6915193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custGeom>
              <a:avLst/>
              <a:gdLst/>
              <a:ahLst/>
              <a:rect l="l" t="t" r="r" b="b"/>
              <a:pathLst>
                <a:path w="4251960" h="6387352">
                  <a:moveTo>
                    <a:pt x="0" y="0"/>
                  </a:moveTo>
                  <a:lnTo>
                    <a:pt x="4090641" y="0"/>
                  </a:lnTo>
                  <a:lnTo>
                    <a:pt x="4251960" y="161319"/>
                  </a:lnTo>
                  <a:lnTo>
                    <a:pt x="4251960" y="6387352"/>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437" name="Teardrop 8"/>
            <p:cNvSpPr/>
            <p:nvPr/>
          </p:nvSpPr>
          <p:spPr>
            <a:xfrm>
              <a:off x="3885840" y="432360"/>
              <a:ext cx="354960" cy="354960"/>
            </a:xfrm>
            <a:custGeom>
              <a:avLst/>
              <a:gdLst/>
              <a:ahLst/>
              <a:rect l="l" t="t" r="r" b="b"/>
              <a:pathLst>
                <a:path w="355002" h="355002">
                  <a:moveTo>
                    <a:pt x="0" y="177501"/>
                  </a:moveTo>
                  <a:cubicBezTo>
                    <a:pt x="0" y="79470"/>
                    <a:pt x="79470" y="0"/>
                    <a:pt x="177501" y="0"/>
                  </a:cubicBezTo>
                  <a:lnTo>
                    <a:pt x="355002" y="0"/>
                  </a:lnTo>
                  <a:lnTo>
                    <a:pt x="355002" y="177501"/>
                  </a:lnTo>
                  <a:cubicBezTo>
                    <a:pt x="355002" y="275532"/>
                    <a:pt x="275532" y="355002"/>
                    <a:pt x="177501" y="355002"/>
                  </a:cubicBezTo>
                  <a:cubicBezTo>
                    <a:pt x="79470" y="355002"/>
                    <a:pt x="0" y="275532"/>
                    <a:pt x="0" y="177501"/>
                  </a:cubicBez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47B3-F96F-4FF8-8798-B680C8DCF57C}"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custGeom>
            <a:avLst/>
            <a:gdLst/>
            <a:ahLst/>
            <a:rect l="l" t="t" r="r" b="b"/>
            <a:pathLst>
              <a:path w="8686800" h="1963271">
                <a:moveTo>
                  <a:pt x="0" y="0"/>
                </a:moveTo>
                <a:lnTo>
                  <a:pt x="8502783" y="0"/>
                </a:lnTo>
                <a:lnTo>
                  <a:pt x="8686800" y="184017"/>
                </a:lnTo>
                <a:lnTo>
                  <a:pt x="8686800" y="1963271"/>
                </a:lnTo>
                <a:lnTo>
                  <a:pt x="8686800" y="1963271"/>
                </a:lnTo>
                <a:lnTo>
                  <a:pt x="184017" y="1963271"/>
                </a:lnTo>
                <a:lnTo>
                  <a:pt x="0" y="1779254"/>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1CC5-BDB3-4575-BAD2-1696370040A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F2CE-AEB9-4BCB-BB52-96D47870832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custGeom>
            <a:avLst/>
            <a:gdLst/>
            <a:ahLst/>
            <a:rect l="l" t="t" r="r" b="b"/>
            <a:pathLst>
              <a:path w="8686800" h="6387352">
                <a:moveTo>
                  <a:pt x="0" y="0"/>
                </a:moveTo>
                <a:lnTo>
                  <a:pt x="8525264" y="0"/>
                </a:lnTo>
                <a:lnTo>
                  <a:pt x="8686800" y="161536"/>
                </a:lnTo>
                <a:lnTo>
                  <a:pt x="8686800" y="6387352"/>
                </a:lnTo>
                <a:lnTo>
                  <a:pt x="8686800" y="6387352"/>
                </a:lnTo>
                <a:lnTo>
                  <a:pt x="161536" y="6387352"/>
                </a:lnTo>
                <a:lnTo>
                  <a:pt x="0" y="6225816"/>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9A52-16B5-4187-8080-C3B762202E37}"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custGeom>
                <a:avLst/>
                <a:gdLst/>
                <a:ahLst/>
                <a:rect l="l" t="t" r="r" b="b"/>
                <a:pathLst>
                  <a:path w="7543800" h="2590800">
                    <a:moveTo>
                      <a:pt x="0" y="0"/>
                    </a:moveTo>
                    <a:lnTo>
                      <a:pt x="7352625" y="0"/>
                    </a:lnTo>
                    <a:lnTo>
                      <a:pt x="7543800" y="191175"/>
                    </a:lnTo>
                    <a:lnTo>
                      <a:pt x="7543800" y="2590800"/>
                    </a:lnTo>
                    <a:lnTo>
                      <a:pt x="0" y="2590800"/>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custGeom>
              <a:avLst/>
              <a:gdLst/>
              <a:ahLst/>
              <a:rect l="l" t="t" r="r" b="b"/>
              <a:pathLst>
                <a:path w="394447" h="394447">
                  <a:moveTo>
                    <a:pt x="0" y="197224"/>
                  </a:moveTo>
                  <a:cubicBezTo>
                    <a:pt x="0" y="88300"/>
                    <a:pt x="88300" y="0"/>
                    <a:pt x="197224" y="0"/>
                  </a:cubicBezTo>
                  <a:lnTo>
                    <a:pt x="394447" y="0"/>
                  </a:lnTo>
                  <a:lnTo>
                    <a:pt x="394447" y="197224"/>
                  </a:lnTo>
                  <a:cubicBezTo>
                    <a:pt x="394447" y="306148"/>
                    <a:pt x="306147" y="394448"/>
                    <a:pt x="197223" y="394448"/>
                  </a:cubicBezTo>
                  <a:cubicBezTo>
                    <a:pt x="88299" y="394448"/>
                    <a:pt x="-1" y="306148"/>
                    <a:pt x="-1" y="197224"/>
                  </a:cubicBezTo>
                  <a:lnTo>
                    <a:pt x="0" y="197224"/>
                  </a:ln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2EAB-A8E7-4DBD-A51E-9AE1D402B3A7}"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custGeom>
                <a:avLst/>
                <a:gdLst/>
                <a:ahLst/>
                <a:rect l="l" t="t" r="r" b="b"/>
                <a:pathLst>
                  <a:path w="7543800" h="2590800">
                    <a:moveTo>
                      <a:pt x="0" y="0"/>
                    </a:moveTo>
                    <a:lnTo>
                      <a:pt x="7352625" y="0"/>
                    </a:lnTo>
                    <a:lnTo>
                      <a:pt x="7543800" y="191175"/>
                    </a:lnTo>
                    <a:lnTo>
                      <a:pt x="7543800" y="2590800"/>
                    </a:lnTo>
                    <a:lnTo>
                      <a:pt x="0" y="2590800"/>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custGeom>
              <a:avLst/>
              <a:gdLst/>
              <a:ahLst/>
              <a:rect l="l" t="t" r="r" b="b"/>
              <a:pathLst>
                <a:path w="394447" h="394447">
                  <a:moveTo>
                    <a:pt x="0" y="197224"/>
                  </a:moveTo>
                  <a:cubicBezTo>
                    <a:pt x="0" y="88300"/>
                    <a:pt x="88300" y="0"/>
                    <a:pt x="197224" y="0"/>
                  </a:cubicBezTo>
                  <a:lnTo>
                    <a:pt x="394447" y="0"/>
                  </a:lnTo>
                  <a:lnTo>
                    <a:pt x="394447" y="197224"/>
                  </a:lnTo>
                  <a:cubicBezTo>
                    <a:pt x="394447" y="306148"/>
                    <a:pt x="306147" y="394448"/>
                    <a:pt x="197223" y="394448"/>
                  </a:cubicBezTo>
                  <a:cubicBezTo>
                    <a:pt x="88299" y="394448"/>
                    <a:pt x="-1" y="306148"/>
                    <a:pt x="-1" y="197224"/>
                  </a:cubicBezTo>
                  <a:lnTo>
                    <a:pt x="0" y="197224"/>
                  </a:ln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custGeom>
                <a:avLst/>
                <a:gdLst/>
                <a:ahLst/>
                <a:rect l="l" t="t" r="r" b="b"/>
                <a:pathLst>
                  <a:path w="7543800" h="2590800">
                    <a:moveTo>
                      <a:pt x="0" y="0"/>
                    </a:moveTo>
                    <a:lnTo>
                      <a:pt x="7352625" y="0"/>
                    </a:lnTo>
                    <a:lnTo>
                      <a:pt x="7543800" y="191175"/>
                    </a:lnTo>
                    <a:lnTo>
                      <a:pt x="7543800" y="2590800"/>
                    </a:lnTo>
                    <a:lnTo>
                      <a:pt x="0" y="2590800"/>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custGeom>
              <a:avLst/>
              <a:gdLst/>
              <a:ahLst/>
              <a:rect l="l" t="t" r="r" b="b"/>
              <a:pathLst>
                <a:path w="394447" h="394447">
                  <a:moveTo>
                    <a:pt x="0" y="197224"/>
                  </a:moveTo>
                  <a:cubicBezTo>
                    <a:pt x="0" y="88300"/>
                    <a:pt x="88300" y="0"/>
                    <a:pt x="197224" y="0"/>
                  </a:cubicBezTo>
                  <a:lnTo>
                    <a:pt x="394447" y="0"/>
                  </a:lnTo>
                  <a:lnTo>
                    <a:pt x="394447" y="197224"/>
                  </a:lnTo>
                  <a:cubicBezTo>
                    <a:pt x="394447" y="306148"/>
                    <a:pt x="306147" y="394448"/>
                    <a:pt x="197223" y="394448"/>
                  </a:cubicBezTo>
                  <a:cubicBezTo>
                    <a:pt x="88299" y="394448"/>
                    <a:pt x="-1" y="306148"/>
                    <a:pt x="-1" y="197224"/>
                  </a:cubicBezTo>
                  <a:lnTo>
                    <a:pt x="0" y="197224"/>
                  </a:ln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FD25-72FF-470C-B485-B832A2BB24EC}"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0ACD-59E2-48F5-8E05-14BF893F1CE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0082-7A27-4DFC-A2D9-2EC4D17F0E0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custGeom>
            <a:avLst/>
            <a:gdLst/>
            <a:ahLst/>
            <a:rect l="l" t="t" r="r" b="b"/>
            <a:pathLst>
              <a:path w="8686800" h="6387352">
                <a:moveTo>
                  <a:pt x="0" y="0"/>
                </a:moveTo>
                <a:lnTo>
                  <a:pt x="8525264" y="0"/>
                </a:lnTo>
                <a:lnTo>
                  <a:pt x="8686800" y="161536"/>
                </a:lnTo>
                <a:lnTo>
                  <a:pt x="8686800" y="6387352"/>
                </a:lnTo>
                <a:lnTo>
                  <a:pt x="8686800" y="6387352"/>
                </a:lnTo>
                <a:lnTo>
                  <a:pt x="161536" y="6387352"/>
                </a:lnTo>
                <a:lnTo>
                  <a:pt x="0" y="6225816"/>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3132-F5F7-47BA-BB2E-7A8F8A078D4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hippocampus.org/History%20&amp;%20Government?loadLeftClass=CourseCombination&amp;loadLeftId=17&amp;loadTopicId=1685"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92280" y="3484440"/>
            <a:ext cx="586728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74576"/>
                </a:solidFill>
                <a:latin typeface="Corbel"/>
              </a:rPr>
              <a:t>American History</a:t>
            </a:r>
            <a:endParaRPr b="0" lang="en-US" sz="4600" spc="-1" strike="noStrike">
              <a:solidFill>
                <a:srgbClr val="174576"/>
              </a:solidFill>
              <a:latin typeface="Corbel"/>
            </a:endParaRPr>
          </a:p>
        </p:txBody>
      </p:sp>
      <p:sp>
        <p:nvSpPr>
          <p:cNvPr id="607" name="PlaceHolder 2"/>
          <p:cNvSpPr>
            <a:spLocks noGrp="1"/>
          </p:cNvSpPr>
          <p:nvPr>
            <p:ph type="subTitle"/>
          </p:nvPr>
        </p:nvSpPr>
        <p:spPr>
          <a:xfrm>
            <a:off x="0" y="4954680"/>
            <a:ext cx="7238880" cy="1015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74576"/>
                </a:solidFill>
                <a:uFillTx/>
                <a:latin typeface="Corbel"/>
              </a:rPr>
              <a:t>Topic</a:t>
            </a:r>
            <a:r>
              <a:rPr b="0" lang="en-US" sz="2800" spc="-1" strike="noStrike">
                <a:solidFill>
                  <a:srgbClr val="174576"/>
                </a:solidFill>
                <a:latin typeface="Corbel"/>
              </a:rPr>
              <a:t>: Conformity and Consensus in the 1950s</a:t>
            </a:r>
            <a:endParaRPr b="0" lang="en-US" sz="2800" spc="-1" strike="noStrike">
              <a:solidFill>
                <a:srgbClr val="174576"/>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4576"/>
                </a:solidFill>
                <a:latin typeface="Corbel"/>
              </a:rPr>
              <a:t>*2 Day Lesson</a:t>
            </a:r>
            <a:endParaRPr b="0" lang="en-US" sz="2800" spc="-1" strike="noStrike">
              <a:solidFill>
                <a:srgbClr val="174576"/>
              </a:solidFill>
              <a:latin typeface="Corbel"/>
            </a:endParaRPr>
          </a:p>
        </p:txBody>
      </p:sp>
      <p:pic>
        <p:nvPicPr>
          <p:cNvPr id="608" name="Picture 4" descr=""/>
          <p:cNvPicPr/>
          <p:nvPr/>
        </p:nvPicPr>
        <p:blipFill>
          <a:blip r:embed="rId1"/>
          <a:stretch/>
        </p:blipFill>
        <p:spPr>
          <a:xfrm>
            <a:off x="0" y="0"/>
            <a:ext cx="8996400" cy="321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Back to the notes….</a:t>
            </a:r>
            <a:endParaRPr b="0" lang="en-US" sz="3800" spc="-1" strike="noStrike">
              <a:solidFill>
                <a:srgbClr val="174576"/>
              </a:solidFill>
              <a:latin typeface="Corbel"/>
            </a:endParaRPr>
          </a:p>
        </p:txBody>
      </p:sp>
      <p:pic>
        <p:nvPicPr>
          <p:cNvPr id="633" name="" descr=""/>
          <p:cNvPicPr/>
          <p:nvPr/>
        </p:nvPicPr>
        <p:blipFill>
          <a:blip r:embed="rId1"/>
          <a:stretch/>
        </p:blipFill>
        <p:spPr>
          <a:xfrm>
            <a:off x="779040" y="1949400"/>
            <a:ext cx="7583400" cy="400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174576"/>
                </a:solidFill>
                <a:latin typeface="Corbel"/>
              </a:rPr>
              <a:t>Dennis v. U.S. </a:t>
            </a:r>
            <a:r>
              <a:rPr b="0" lang="en-US" sz="3800" spc="-1" strike="noStrike">
                <a:solidFill>
                  <a:srgbClr val="174576"/>
                </a:solidFill>
                <a:latin typeface="Corbel"/>
              </a:rPr>
              <a:t>(1951)</a:t>
            </a:r>
            <a:endParaRPr b="0" lang="en-US" sz="3800" spc="-1" strike="noStrike">
              <a:solidFill>
                <a:srgbClr val="174576"/>
              </a:solidFill>
              <a:latin typeface="Corbel"/>
            </a:endParaRPr>
          </a:p>
        </p:txBody>
      </p:sp>
      <p:sp>
        <p:nvSpPr>
          <p:cNvPr id="63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eaders of the American Communist party were jailed for advocating the overthrow of the U.S. governmen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In </a:t>
            </a:r>
            <a:r>
              <a:rPr b="0" i="1" lang="en-US" sz="2200" spc="-1" strike="noStrike">
                <a:solidFill>
                  <a:srgbClr val="174576"/>
                </a:solidFill>
                <a:latin typeface="Corbel"/>
              </a:rPr>
              <a:t>Dennis v. U.S., </a:t>
            </a:r>
            <a:r>
              <a:rPr b="0" lang="en-US" sz="2200" spc="-1" strike="noStrike">
                <a:solidFill>
                  <a:srgbClr val="174576"/>
                </a:solidFill>
                <a:latin typeface="Corbel"/>
              </a:rPr>
              <a:t>the Supreme Court upheld the constitutionality of the 1940 </a:t>
            </a:r>
            <a:r>
              <a:rPr b="1" lang="en-US" sz="2200" spc="-1" strike="noStrike">
                <a:solidFill>
                  <a:srgbClr val="174576"/>
                </a:solidFill>
                <a:latin typeface="Corbel"/>
              </a:rPr>
              <a:t>Smith Act </a:t>
            </a:r>
            <a:r>
              <a:rPr b="0" lang="en-US" sz="2200" spc="-1" strike="noStrike">
                <a:solidFill>
                  <a:srgbClr val="174576"/>
                </a:solidFill>
                <a:latin typeface="Corbel"/>
              </a:rPr>
              <a:t>which made it illegal to advocate the overthrow of the govt. by force or to belong to such a group</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ourt ruled it was ok to teach about Communism, but not to “advocate” it as an ideology because that presented a “clear and present danger” (</a:t>
            </a:r>
            <a:r>
              <a:rPr b="0" i="1" lang="en-US" sz="2200" spc="-1" strike="noStrike">
                <a:solidFill>
                  <a:srgbClr val="174576"/>
                </a:solidFill>
                <a:latin typeface="Corbel"/>
              </a:rPr>
              <a:t>Schenck v. US</a:t>
            </a:r>
            <a:r>
              <a:rPr b="0" lang="en-US" sz="2200" spc="-1" strike="noStrike">
                <a:solidFill>
                  <a:srgbClr val="174576"/>
                </a:solidFill>
                <a:latin typeface="Corbel"/>
              </a:rPr>
              <a:t> – yelling fire in a crowded theater)</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McCarren Internal Security Act (1950)</a:t>
            </a:r>
            <a:endParaRPr b="0" lang="en-US" sz="3800" spc="-1" strike="noStrike">
              <a:solidFill>
                <a:srgbClr val="174576"/>
              </a:solidFill>
              <a:latin typeface="Corbel"/>
            </a:endParaRPr>
          </a:p>
        </p:txBody>
      </p:sp>
      <p:sp>
        <p:nvSpPr>
          <p:cNvPr id="637" name=""/>
          <p:cNvSpPr txBox="1"/>
          <p:nvPr/>
        </p:nvSpPr>
        <p:spPr>
          <a:xfrm>
            <a:off x="779400" y="1949400"/>
            <a:ext cx="4741920" cy="4006800"/>
          </a:xfrm>
          <a:prstGeom prst="rect">
            <a:avLst/>
          </a:prstGeom>
          <a:noFill/>
          <a:ln w="0">
            <a:noFill/>
          </a:ln>
        </p:spPr>
        <p:txBody>
          <a:bodyPr anchor="t">
            <a:normAutofit fontScale="90000"/>
          </a:bodyPr>
          <a:p>
            <a:pPr marL="308520" indent="-30852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Over Truman’s veto, Congress passed the MISA. It had 3 provisions:</a:t>
            </a:r>
            <a:endParaRPr b="0" lang="en-US" sz="2200" spc="-1" strike="noStrike">
              <a:solidFill>
                <a:srgbClr val="174576"/>
              </a:solidFill>
              <a:latin typeface="Corbel"/>
            </a:endParaRPr>
          </a:p>
          <a:p>
            <a:pPr marL="308520" indent="-308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1) Made it unlawful to advocate the establishment of a totalitarian govt.</a:t>
            </a:r>
            <a:endParaRPr b="0" lang="en-US" sz="2200" spc="-1" strike="noStrike">
              <a:solidFill>
                <a:srgbClr val="174576"/>
              </a:solidFill>
              <a:latin typeface="Corbel"/>
            </a:endParaRPr>
          </a:p>
          <a:p>
            <a:pPr marL="308520" indent="-308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2) Restricted the employment and traveling of those joining Communist-front organizations</a:t>
            </a:r>
            <a:endParaRPr b="0" lang="en-US" sz="2200" spc="-1" strike="noStrike">
              <a:solidFill>
                <a:srgbClr val="174576"/>
              </a:solidFill>
              <a:latin typeface="Corbel"/>
            </a:endParaRPr>
          </a:p>
          <a:p>
            <a:pPr marL="308520" indent="-308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3) Authorized the creation of detention camps for subversives</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HippoCampus Video on McCarthy</a:t>
            </a:r>
            <a:endParaRPr b="0" lang="en-US" sz="3800" spc="-1" strike="noStrike">
              <a:solidFill>
                <a:srgbClr val="174576"/>
              </a:solidFill>
              <a:latin typeface="Corbel"/>
            </a:endParaRPr>
          </a:p>
        </p:txBody>
      </p:sp>
      <p:sp>
        <p:nvSpPr>
          <p:cNvPr id="63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286c9"/>
                </a:solidFill>
                <a:uFillTx/>
                <a:latin typeface="Corbel"/>
                <a:hlinkClick r:id="rId1"/>
              </a:rPr>
              <a:t>McCarthyism Video</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McCarthy’s Tactics</a:t>
            </a:r>
            <a:endParaRPr b="0" lang="en-US" sz="3800" spc="-1" strike="noStrike">
              <a:solidFill>
                <a:srgbClr val="174576"/>
              </a:solidFill>
              <a:latin typeface="Corbel"/>
            </a:endParaRPr>
          </a:p>
        </p:txBody>
      </p:sp>
      <p:pic>
        <p:nvPicPr>
          <p:cNvPr id="641" name="Content Placeholder 3" descr=""/>
          <p:cNvPicPr/>
          <p:nvPr/>
        </p:nvPicPr>
        <p:blipFill>
          <a:blip r:embed="rId1"/>
          <a:srcRect l="-33743" t="0" r="-33743" b="0"/>
          <a:stretch/>
        </p:blipFill>
        <p:spPr>
          <a:xfrm>
            <a:off x="4175280" y="1949400"/>
            <a:ext cx="5765760" cy="4006800"/>
          </a:xfrm>
          <a:prstGeom prst="rect">
            <a:avLst/>
          </a:prstGeom>
          <a:ln w="0">
            <a:noFill/>
          </a:ln>
        </p:spPr>
      </p:pic>
      <p:sp>
        <p:nvSpPr>
          <p:cNvPr id="642" name="TextBox 4"/>
          <p:cNvSpPr/>
          <p:nvPr/>
        </p:nvSpPr>
        <p:spPr>
          <a:xfrm>
            <a:off x="615960" y="1949400"/>
            <a:ext cx="4444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154"/>
                </a:solidFill>
                <a:latin typeface="Corbel"/>
              </a:rPr>
              <a:t>He used constant unsupported accusations about Communists in government to keep the media focus on himself and discredit the Truman administration</a:t>
            </a:r>
            <a:endParaRPr b="0" lang="en-US" sz="26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154"/>
                </a:solidFill>
                <a:latin typeface="Corbel"/>
              </a:rPr>
              <a:t>He was 1) elevating own career AND 2) hoping to elevate Eisenhower campaign</a:t>
            </a:r>
            <a:endParaRPr b="0" lang="en-US" sz="26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Tactics</a:t>
            </a:r>
            <a:endParaRPr b="0" lang="en-US" sz="3800" spc="-1" strike="noStrike">
              <a:solidFill>
                <a:srgbClr val="174576"/>
              </a:solidFill>
              <a:latin typeface="Corbel"/>
            </a:endParaRPr>
          </a:p>
        </p:txBody>
      </p:sp>
      <p:pic>
        <p:nvPicPr>
          <p:cNvPr id="644" name="Content Placeholder 3" descr=""/>
          <p:cNvPicPr/>
          <p:nvPr/>
        </p:nvPicPr>
        <p:blipFill>
          <a:blip r:embed="rId1"/>
          <a:srcRect l="0" t="3618" r="0" b="3618"/>
          <a:stretch/>
        </p:blipFill>
        <p:spPr>
          <a:xfrm>
            <a:off x="5381640" y="1949400"/>
            <a:ext cx="2981160" cy="4006800"/>
          </a:xfrm>
          <a:prstGeom prst="rect">
            <a:avLst/>
          </a:prstGeom>
          <a:ln w="0">
            <a:noFill/>
          </a:ln>
        </p:spPr>
      </p:pic>
      <p:sp>
        <p:nvSpPr>
          <p:cNvPr id="645" name="TextBox 4"/>
          <p:cNvSpPr/>
          <p:nvPr/>
        </p:nvSpPr>
        <p:spPr>
          <a:xfrm>
            <a:off x="584280" y="1949400"/>
            <a:ext cx="4294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154"/>
                </a:solidFill>
                <a:latin typeface="Corbel"/>
              </a:rPr>
              <a:t>Middle-class Americans loved his “take the gloves off” approach with hard-hitting remarks aimed at the wealthy</a:t>
            </a: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154"/>
                </a:solidFill>
                <a:latin typeface="Corbel"/>
              </a:rPr>
              <a:t>His popularity soared so even President Eisenhower did not defend his close friend George Marshall (Marshall Plan) when McCarthy accused Marshall of being a communist</a:t>
            </a: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McCarthy’s Downfall</a:t>
            </a:r>
            <a:endParaRPr b="0" lang="en-US" sz="3800" spc="-1" strike="noStrike">
              <a:solidFill>
                <a:srgbClr val="174576"/>
              </a:solidFill>
              <a:latin typeface="Corbel"/>
            </a:endParaRPr>
          </a:p>
        </p:txBody>
      </p:sp>
      <p:sp>
        <p:nvSpPr>
          <p:cNvPr id="647"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In 1954, McCarthy had accused the army of Communism and the Senate held a live TV hearing</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McCarthy viewed as a bully by millions on ABC and is why ABC was able to become a  major network</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McCarthy could never prove his claims and he was discredited after verbally sparring with Army Counsel Joseph Welch</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nti-McCarthyism </a:t>
            </a:r>
            <a:endParaRPr b="0" lang="en-US" sz="3800" spc="-1" strike="noStrike">
              <a:solidFill>
                <a:srgbClr val="174576"/>
              </a:solidFill>
              <a:latin typeface="Corbel"/>
            </a:endParaRPr>
          </a:p>
        </p:txBody>
      </p:sp>
      <p:pic>
        <p:nvPicPr>
          <p:cNvPr id="649" name="Content Placeholder 3" descr=""/>
          <p:cNvPicPr/>
          <p:nvPr/>
        </p:nvPicPr>
        <p:blipFill>
          <a:blip r:embed="rId1"/>
          <a:srcRect l="0" t="23581" r="0" b="23581"/>
          <a:stretch/>
        </p:blipFill>
        <p:spPr>
          <a:xfrm>
            <a:off x="4737240" y="1949400"/>
            <a:ext cx="3927240" cy="4006800"/>
          </a:xfrm>
          <a:prstGeom prst="rect">
            <a:avLst/>
          </a:prstGeom>
          <a:ln w="0">
            <a:noFill/>
          </a:ln>
        </p:spPr>
      </p:pic>
      <p:sp>
        <p:nvSpPr>
          <p:cNvPr id="650" name="TextBox 4"/>
          <p:cNvSpPr/>
          <p:nvPr/>
        </p:nvSpPr>
        <p:spPr>
          <a:xfrm>
            <a:off x="584280" y="2236680"/>
            <a:ext cx="41529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Anyone opposed to his crusade against Communism</a:t>
            </a:r>
            <a:endParaRPr b="0" lang="en-US" sz="2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Many were fearful of his accusations which could lead to losing a job, being jailed, etc</a:t>
            </a:r>
            <a:endParaRPr b="0" lang="en-US" sz="2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2-1-1</a:t>
            </a:r>
            <a:endParaRPr b="0" lang="en-US" sz="3800" spc="-1" strike="noStrike">
              <a:solidFill>
                <a:srgbClr val="174576"/>
              </a:solidFill>
              <a:latin typeface="Corbel"/>
            </a:endParaRPr>
          </a:p>
        </p:txBody>
      </p:sp>
      <p:sp>
        <p:nvSpPr>
          <p:cNvPr id="652"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image associated with the 1950s was one of consensus and conformity. But rising up in the heart of society was rebellion. This rebellion was fueled by the restlessness of youths and the passion of civil rights activists.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Learning Goal</a:t>
            </a:r>
            <a:endParaRPr b="0" lang="en-US" sz="3800" spc="-1" strike="noStrike">
              <a:solidFill>
                <a:srgbClr val="174576"/>
              </a:solidFill>
              <a:latin typeface="Corbel"/>
            </a:endParaRPr>
          </a:p>
        </p:txBody>
      </p:sp>
      <p:sp>
        <p:nvSpPr>
          <p:cNvPr id="610"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4576"/>
                </a:solidFill>
                <a:latin typeface="Corbel"/>
              </a:rPr>
              <a:t>Students will be able to explain, with specific historical examples, how the 1950s were </a:t>
            </a:r>
            <a:r>
              <a:rPr b="0" lang="en-US" sz="3200" spc="-1" strike="noStrike" u="sng">
                <a:solidFill>
                  <a:srgbClr val="174576"/>
                </a:solidFill>
                <a:uFillTx/>
                <a:latin typeface="Corbel"/>
              </a:rPr>
              <a:t>both</a:t>
            </a:r>
            <a:r>
              <a:rPr b="0" lang="en-US" sz="3200" spc="-1" strike="noStrike">
                <a:solidFill>
                  <a:srgbClr val="174576"/>
                </a:solidFill>
                <a:latin typeface="Corbel"/>
              </a:rPr>
              <a:t> a decade of conformity AND rebellion.</a:t>
            </a:r>
            <a:endParaRPr b="0" lang="en-US" sz="3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4576"/>
                </a:solidFill>
                <a:latin typeface="Corbel"/>
              </a:rPr>
              <a:t>Today you will be taking notes and 2 short quizzes/assessments</a:t>
            </a:r>
            <a:endParaRPr b="0" lang="en-US" sz="3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Rubric</a:t>
            </a:r>
            <a:endParaRPr b="0" lang="en-US" sz="3800" spc="-1" strike="noStrike">
              <a:solidFill>
                <a:srgbClr val="174576"/>
              </a:solidFill>
              <a:latin typeface="Corbel"/>
            </a:endParaRPr>
          </a:p>
        </p:txBody>
      </p:sp>
      <p:graphicFrame>
        <p:nvGraphicFramePr>
          <p:cNvPr id="612" name=""/>
          <p:cNvGraphicFramePr/>
          <p:nvPr/>
        </p:nvGraphicFramePr>
        <p:xfrm>
          <a:off x="322200" y="1771560"/>
          <a:ext cx="8531280" cy="4903920"/>
        </p:xfrm>
        <a:graphic>
          <a:graphicData uri="http://schemas.openxmlformats.org/drawingml/2006/table">
            <a:tbl>
              <a:tblPr/>
              <a:tblGrid>
                <a:gridCol w="1778040"/>
                <a:gridCol w="675324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4</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7f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I understand this well enough to teach it to my neighbor &amp; I can explain with concrete historical examples how the 50s were a decade of both conformity and rebellion</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7f01"/>
                    </a:solidFill>
                  </a:tcPr>
                </a:tc>
              </a:tr>
              <a:tr h="126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3</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 know enough to write a competent opening paragraph with concrete historical examples of conformity and rebellion</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8cb"/>
                    </a:solidFill>
                  </a:tcPr>
                </a:tc>
              </a:tr>
              <a:tr h="126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2</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 get the concepts of conformity and rebellion but do not understand how the 50s shared both concepts </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r>
              <a:tr h="73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1</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 do not understand any historical themes of the the 1950s</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8cb"/>
                    </a:solidFill>
                  </a:tcPr>
                </a:tc>
              </a:tr>
              <a:tr h="73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0</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m not sure what year this is…</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rnell Notes</a:t>
            </a:r>
            <a:endParaRPr b="0" lang="en-US" sz="3800" spc="-1" strike="noStrike">
              <a:solidFill>
                <a:srgbClr val="174576"/>
              </a:solidFill>
              <a:latin typeface="Corbel"/>
            </a:endParaRPr>
          </a:p>
        </p:txBody>
      </p:sp>
      <p:sp>
        <p:nvSpPr>
          <p:cNvPr id="614" name=""/>
          <p:cNvSpPr txBox="1"/>
          <p:nvPr/>
        </p:nvSpPr>
        <p:spPr>
          <a:xfrm>
            <a:off x="779040" y="1949400"/>
            <a:ext cx="222588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4576"/>
                </a:solidFill>
                <a:latin typeface="Corbel"/>
              </a:rPr>
              <a:t>Conformity</a:t>
            </a:r>
            <a:endParaRPr b="0" lang="en-US" sz="2800" spc="-1" strike="noStrike">
              <a:solidFill>
                <a:srgbClr val="174576"/>
              </a:solidFill>
              <a:latin typeface="Corbel"/>
            </a:endParaRPr>
          </a:p>
        </p:txBody>
      </p:sp>
      <p:sp>
        <p:nvSpPr>
          <p:cNvPr id="615" name="TextBox 3"/>
          <p:cNvSpPr/>
          <p:nvPr/>
        </p:nvSpPr>
        <p:spPr>
          <a:xfrm>
            <a:off x="3559320" y="1949400"/>
            <a:ext cx="52052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Examples in the 1950s included:</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Suburbs</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Usage of Interstates</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Levitowns</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Baby Boom</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Consumerism</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a:t>
            </a:r>
            <a:r>
              <a:rPr b="0" lang="en-US" sz="2800" spc="-1" strike="noStrike">
                <a:solidFill>
                  <a:srgbClr val="103154"/>
                </a:solidFill>
                <a:latin typeface="Corbel"/>
              </a:rPr>
              <a:t>We Like Ike” Ad</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The American Dream</a:t>
            </a:r>
            <a:endParaRPr b="0" lang="en-US" sz="2800" spc="-1" strike="noStrike">
              <a:solidFill>
                <a:srgbClr val="103154"/>
              </a:solidFill>
              <a:latin typeface="Corbel"/>
            </a:endParaRPr>
          </a:p>
        </p:txBody>
      </p:sp>
      <p:pic>
        <p:nvPicPr>
          <p:cNvPr id="616" name="Picture 4" descr=""/>
          <p:cNvPicPr/>
          <p:nvPr/>
        </p:nvPicPr>
        <p:blipFill>
          <a:blip r:embed="rId1"/>
          <a:stretch/>
        </p:blipFill>
        <p:spPr>
          <a:xfrm>
            <a:off x="198360" y="3416400"/>
            <a:ext cx="3360960" cy="3184560"/>
          </a:xfrm>
          <a:prstGeom prst="rect">
            <a:avLst/>
          </a:prstGeom>
          <a:ln w="0">
            <a:noFill/>
          </a:ln>
        </p:spPr>
      </p:pic>
      <p:pic>
        <p:nvPicPr>
          <p:cNvPr id="617" name="Picture 5" descr=""/>
          <p:cNvPicPr/>
          <p:nvPr/>
        </p:nvPicPr>
        <p:blipFill>
          <a:blip r:embed="rId2"/>
          <a:stretch/>
        </p:blipFill>
        <p:spPr>
          <a:xfrm>
            <a:off x="7243920" y="2808360"/>
            <a:ext cx="1663560" cy="29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Political Ad &amp; Music Samples</a:t>
            </a:r>
            <a:endParaRPr b="0" lang="en-US" sz="3800" spc="-1" strike="noStrike">
              <a:solidFill>
                <a:srgbClr val="174576"/>
              </a:solidFill>
              <a:latin typeface="Corbel"/>
            </a:endParaRPr>
          </a:p>
        </p:txBody>
      </p:sp>
      <p:sp>
        <p:nvSpPr>
          <p:cNvPr id="61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t>
            </a:r>
            <a:r>
              <a:rPr b="0" lang="en-US" sz="2200" spc="-1" strike="noStrike">
                <a:solidFill>
                  <a:srgbClr val="174576"/>
                </a:solidFill>
                <a:latin typeface="Corbel"/>
              </a:rPr>
              <a:t>We Like Ike” Video</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Elvis Presley: “Jailhouse Rock”</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hubby Checker: “Twis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huck Berry: “Johnny B. Good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ittle Richard: “Tutti-Frutti”</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Quick Check for Understanding: Assessment a</a:t>
            </a:r>
            <a:endParaRPr b="0" lang="en-US" sz="3400" spc="-1" strike="noStrike">
              <a:solidFill>
                <a:srgbClr val="174576"/>
              </a:solidFill>
              <a:latin typeface="Corbel"/>
            </a:endParaRPr>
          </a:p>
        </p:txBody>
      </p:sp>
      <p:sp>
        <p:nvSpPr>
          <p:cNvPr id="62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cide whether each event is an example of conformity or rebellion:</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Youths listening to Elvis</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Buying a house in the suburbs</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Using a credit card to buy a TV</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fying your parents</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 non-violent “sit in” protest</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Rose Parks refusing to give up her seat</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entral High School / President Eisenhower</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Baby Boom</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rnell Notes</a:t>
            </a:r>
            <a:endParaRPr b="0" lang="en-US" sz="3800" spc="-1" strike="noStrike">
              <a:solidFill>
                <a:srgbClr val="174576"/>
              </a:solidFill>
              <a:latin typeface="Corbel"/>
            </a:endParaRPr>
          </a:p>
        </p:txBody>
      </p:sp>
      <p:sp>
        <p:nvSpPr>
          <p:cNvPr id="623" name=""/>
          <p:cNvSpPr txBox="1"/>
          <p:nvPr/>
        </p:nvSpPr>
        <p:spPr>
          <a:xfrm>
            <a:off x="779400" y="1949400"/>
            <a:ext cx="215424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4576"/>
                </a:solidFill>
                <a:latin typeface="Corbel"/>
              </a:rPr>
              <a:t>Rebellion</a:t>
            </a:r>
            <a:endParaRPr b="0" lang="en-US" sz="2800" spc="-1" strike="noStrike">
              <a:solidFill>
                <a:srgbClr val="174576"/>
              </a:solidFill>
              <a:latin typeface="Corbel"/>
            </a:endParaRPr>
          </a:p>
        </p:txBody>
      </p:sp>
      <p:sp>
        <p:nvSpPr>
          <p:cNvPr id="624" name="TextBox 3"/>
          <p:cNvSpPr/>
          <p:nvPr/>
        </p:nvSpPr>
        <p:spPr>
          <a:xfrm>
            <a:off x="3165480" y="1897200"/>
            <a:ext cx="541980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Elvis Presley / Rock n Roll</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James Dean: Rebel Without a Cause</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Catcher in the Rye, J.D. Salinger</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BB King</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Beatniks</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Anyone fighting for civil rights</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154"/>
              </a:solidFill>
              <a:latin typeface="Corbel"/>
            </a:endParaRPr>
          </a:p>
        </p:txBody>
      </p:sp>
      <p:pic>
        <p:nvPicPr>
          <p:cNvPr id="625" name="Picture 4" descr=""/>
          <p:cNvPicPr/>
          <p:nvPr/>
        </p:nvPicPr>
        <p:blipFill>
          <a:blip r:embed="rId1"/>
          <a:stretch/>
        </p:blipFill>
        <p:spPr>
          <a:xfrm>
            <a:off x="371520" y="3821040"/>
            <a:ext cx="2793960" cy="27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rnell Notes</a:t>
            </a:r>
            <a:endParaRPr b="0" lang="en-US" sz="3800" spc="-1" strike="noStrike">
              <a:solidFill>
                <a:srgbClr val="174576"/>
              </a:solidFill>
              <a:latin typeface="Corbel"/>
            </a:endParaRPr>
          </a:p>
        </p:txBody>
      </p:sp>
      <p:sp>
        <p:nvSpPr>
          <p:cNvPr id="627" name=""/>
          <p:cNvSpPr txBox="1"/>
          <p:nvPr/>
        </p:nvSpPr>
        <p:spPr>
          <a:xfrm>
            <a:off x="243000" y="1949400"/>
            <a:ext cx="33336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74576"/>
                </a:solidFill>
                <a:latin typeface="Corbel"/>
              </a:rPr>
              <a:t>Political Concerns</a:t>
            </a:r>
            <a:endParaRPr b="0" lang="en-US" sz="2600" spc="-1" strike="noStrike">
              <a:solidFill>
                <a:srgbClr val="174576"/>
              </a:solidFill>
              <a:latin typeface="Corbel"/>
            </a:endParaRPr>
          </a:p>
        </p:txBody>
      </p:sp>
      <p:sp>
        <p:nvSpPr>
          <p:cNvPr id="628" name="TextBox 3"/>
          <p:cNvSpPr/>
          <p:nvPr/>
        </p:nvSpPr>
        <p:spPr>
          <a:xfrm>
            <a:off x="3416400" y="1949400"/>
            <a:ext cx="5222880" cy="4664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McCarthyism / Red Scare</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Civil Rights</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03154"/>
                </a:solidFill>
                <a:latin typeface="Corbel"/>
              </a:rPr>
              <a:t>Brown v. Board of Education (1954)</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Pacifism / MLK Jr.</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Ongoing Cold War</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Korean War (1950-1953)</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Central High School in Little Rock</a:t>
            </a:r>
            <a:endParaRPr b="0" lang="en-US" sz="2500" spc="-1" strike="noStrike">
              <a:solidFill>
                <a:srgbClr val="103154"/>
              </a:solidFill>
              <a:latin typeface="Corbel"/>
            </a:endParaRPr>
          </a:p>
          <a:p>
            <a:pPr lvl="1" marL="743040" indent="-285840">
              <a:lnSpc>
                <a:spcPct val="100000"/>
              </a:lnSpc>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ea typeface="ＭＳ Ｐゴシック"/>
              </a:rPr>
              <a:t>School Integration / National Guard</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03154"/>
              </a:solidFill>
              <a:latin typeface="Corbel"/>
            </a:endParaRPr>
          </a:p>
        </p:txBody>
      </p:sp>
      <p:pic>
        <p:nvPicPr>
          <p:cNvPr id="629" name="Picture 4" descr=""/>
          <p:cNvPicPr/>
          <p:nvPr/>
        </p:nvPicPr>
        <p:blipFill>
          <a:blip r:embed="rId1"/>
          <a:stretch/>
        </p:blipFill>
        <p:spPr>
          <a:xfrm>
            <a:off x="243000" y="3016080"/>
            <a:ext cx="253980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ssessment b</a:t>
            </a:r>
            <a:endParaRPr b="0" lang="en-US" sz="3800" spc="-1" strike="noStrike">
              <a:solidFill>
                <a:srgbClr val="174576"/>
              </a:solidFill>
              <a:latin typeface="Corbel"/>
            </a:endParaRPr>
          </a:p>
        </p:txBody>
      </p:sp>
      <p:sp>
        <p:nvSpPr>
          <p:cNvPr id="631" name=""/>
          <p:cNvSpPr txBox="1"/>
          <p:nvPr/>
        </p:nvSpPr>
        <p:spPr>
          <a:xfrm>
            <a:off x="779040" y="1949400"/>
            <a:ext cx="7859880" cy="4006800"/>
          </a:xfrm>
          <a:prstGeom prst="rect">
            <a:avLst/>
          </a:prstGeom>
          <a:noFill/>
          <a:ln w="0">
            <a:noFill/>
          </a:ln>
        </p:spPr>
        <p:txBody>
          <a:bodyPr anchor="t">
            <a:normAutofit fontScale="97000"/>
          </a:bodyPr>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rite an introductory paragraph for the FRQ prompt utilizing the 2-1-1 Method</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2 Background Sentence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1 Thesis Sentence</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1 Roadmap Sentence</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You have 8 minutes. After the time is up, you will exchange with a neighbor and give them your evaluation of the paragraph.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hen you get your paragraph back, track your progress on the Learning Goal handou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2:53:07Z</dcterms:created>
  <dc:creator>Mark Scacewater</dc:creator>
  <dc:description/>
  <dc:language>en-US</dc:language>
  <cp:lastModifiedBy>Mark Scacewater</cp:lastModifiedBy>
  <dcterms:modified xsi:type="dcterms:W3CDTF">2012-08-02T18:55:22Z</dcterms:modified>
  <cp:revision>39</cp:revision>
  <dc:subject/>
  <dc:title>PowerPoint Presentation</dc:title>
</cp:coreProperties>
</file>